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7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AC9-CDD7-42D0-B80B-3981BB9F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F8D-CF9F-40BB-A49F-3D5CF2F8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177-7903-48EC-8DAA-0167EAFE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04A-A61B-4AE7-B5F5-1B528E2A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F814-519E-4A29-8C4D-C3AFB2BF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D8FE-5DCB-499F-98BC-AE63EC03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870B-7110-41C8-BEA8-7538A4A7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C0CF-0C78-4E21-AE39-C9D7522A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EEB3-74B8-4D77-8929-A2633CA1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F525-643A-4F57-BA62-37C33C6C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C3A9-5AF8-4035-874C-FC5F86F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390-232B-43FD-97D7-748A433C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DC07-0506-4CEA-BC9B-5272478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F7AD-D2A5-4B9E-8575-5C06E13C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1D49-66E3-44E1-9D58-6C2DE61D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7454-4382-4518-BF7C-4201E03B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8283-4B6C-4C0C-834E-15D784D6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7C7-8DB5-457C-834F-21C904DD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5BE-D1C3-4977-8521-4094E0F4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5F6-714D-4D38-A929-CEA76A9B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4C7-4BEE-4878-B52D-3C0129C9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A45-4F21-4DB3-8539-B4C6E6CC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BA3-C0BB-4711-8B37-D849AF06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ECE-2BB4-4AF9-B7B5-D45E1F09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3DD5-06E0-44CC-B1E7-97551F4C609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3139-A7F3-4884-A743-971344AEDAD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8f8f8"/>
                </a:solidFill>
                <a:latin typeface="Arial"/>
              </a:rPr>
              <a:t>Dr. Seuss</a:t>
            </a:r>
            <a:endParaRPr b="0" lang="en-US" sz="8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9040" y="4179960"/>
            <a:ext cx="51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at would we do without him?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960" y="1206360"/>
            <a:ext cx="81280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1950, children were having a hard time reading because their books were boring! One of Dr. Seuss’s friends called Mr. Geisel and told him he should write a funny book with only a few easy words in it.  It took Dr. Seuss 9 months and he used only 220 easy words. Everybody loved it!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at book w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14600" y="576360"/>
            <a:ext cx="41148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609480"/>
            <a:ext cx="7925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  <a:ea typeface=""/>
              </a:rPr>
              <a:t>Dr. Seuss wrote 48 different books. They have been published in 28 different languages.  More than 100 million copies have been sold all over the world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Seuss is different from many writers because most of his books are written in                         rhyme. To make rhymes,                       he would often make up                     words, like Sneetches,                        and Zizzer-zazzer-zuzz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26352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119400" cy="4419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14800" y="576360"/>
            <a:ext cx="4867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Dr. Seuss was still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writing books whe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he died on Sept. 24,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1991 at the age of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87. His book, </a:t>
            </a: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"/>
                <a:ea typeface=""/>
              </a:rPr>
              <a:t>Daisy-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"/>
                <a:ea typeface=""/>
              </a:rPr>
              <a:t>Head Mayzie,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cam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out 4 years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"/>
              </a:rPr>
              <a:t>later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1720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4000680" cy="2692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66680" y="3733920"/>
            <a:ext cx="74678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Dr. Seuss’s books were fun to read but they taught kids about life too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161040" cy="4559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38080" y="563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 person’s a person, no matter how small!   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8f8f8"/>
                </a:solidFill>
                <a:latin typeface="Arial"/>
              </a:rPr>
              <a:t>Horton Hears a Who!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80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"/>
              </a:rPr>
              <a:t>Dr. Seuss helps us care about others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9400" y="369720"/>
            <a:ext cx="77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. Seuss teaches us to be true to ourselv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3880"/>
            <a:ext cx="541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 have brains in your head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 have feet in your sho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 can steer yourself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y direction you choos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’re on your own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d you know what you know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f8f8f8"/>
                </a:solidFill>
                <a:latin typeface="Arial"/>
              </a:rPr>
              <a:t>YOU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are the gu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o’ll decide where to go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53080" y="2895480"/>
            <a:ext cx="19065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48280" cy="5727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64320" y="473040"/>
            <a:ext cx="4132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 Seuss books can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ach us abou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versity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e see them come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e see them go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ome are fast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d some are slow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Not one of them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Is like another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Don’t ask why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Go ask your mother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657600" cy="5056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3657600" cy="5068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67880" y="5334120"/>
            <a:ext cx="67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r. Seuss wrote books with message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bout getting along, and pollution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755640"/>
            <a:ext cx="8153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that you read,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things you will know,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that you learn,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places you’ll go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Dr. Seuss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2144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9720" y="6854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One of the most famous authors of all times is Dr. Seuss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Seuss’s real name was Theodor Seuss Geisel. Seuss was his middle name. The doctor part he made up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205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9625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. Seuss was born on March 2, 1904. He died on September 24, 1991 when he was 87 years ol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14600" y="533520"/>
            <a:ext cx="38862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2286000" cy="29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971800" y="914400"/>
            <a:ext cx="327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hen Ted went to college, he drew  cartoons for the school newspaper. After college he made ads for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Flit,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a company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at made bug spray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533520"/>
            <a:ext cx="2317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1523880"/>
            <a:ext cx="7620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Dr. Seuss thought of his firs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idea for a children’s book in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1936 while on a vacation cruise.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The rhythm of the ship’s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engine helped him think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of the rhyme of his first book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n you guess which one 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rst book Dr. Seuss wrote wa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d to Think That I Saw it on Mulberry Stree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Forty three different book companies rejected this book!  Finally one of Mr. Geisel’s friends who was a book publisher decided to make it a b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41148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e day Dr. Seuss was sitting in his office with the windows open. A breeze lifted a piece of paper with an elephant sketched on it and laid it down on another drawing of a tree. “All I had to do was figure out what that elephant was doing in that tree.”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at story became 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14600" y="595440"/>
            <a:ext cx="411480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222640" cy="3174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9480" y="4572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"/>
              </a:rPr>
              <a:t>In 1941, Dr. Seuss took a break from writing books. He cared about politics and during World War II drew many cartoons for a magazine. He also joined the United States Army and helped to make movies for the soldier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2863800" cy="3733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2463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0:31:50Z</dcterms:created>
  <dc:creator>Karen DeFrank</dc:creator>
  <dc:description/>
  <dc:language>en-US</dc:language>
  <cp:lastModifiedBy>bregan</cp:lastModifiedBy>
  <dcterms:modified xsi:type="dcterms:W3CDTF">2004-02-27T23:32:13Z</dcterms:modified>
  <cp:revision>113</cp:revision>
  <dc:subject/>
  <dc:title>Dr. Seu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22989960</vt:r8>
  </property>
  <property fmtid="{D5CDD505-2E9C-101B-9397-08002B2CF9AE}" pid="3" name="_AuthorEmail">
    <vt:lpwstr>DDennie@lkwash.wednet.edu</vt:lpwstr>
  </property>
  <property fmtid="{D5CDD505-2E9C-101B-9397-08002B2CF9AE}" pid="4" name="_AuthorEmailDisplayName">
    <vt:lpwstr>Dennie, DyAnn</vt:lpwstr>
  </property>
  <property fmtid="{D5CDD505-2E9C-101B-9397-08002B2CF9AE}" pid="5" name="_EmailSubject">
    <vt:lpwstr>Doctor Seuss Powerpoint</vt:lpwstr>
  </property>
  <property fmtid="{D5CDD505-2E9C-101B-9397-08002B2CF9AE}" pid="6" name="_ReviewingToolsShownOnce">
    <vt:lpwstr/>
  </property>
</Properties>
</file>